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7.wmf" ContentType="image/x-wmf"/>
  <Override PartName="/ppt/media/image16.wmf" ContentType="image/x-wmf"/>
  <Override PartName="/ppt/media/image57.wmf" ContentType="image/x-wmf"/>
  <Override PartName="/ppt/media/image17.png" ContentType="image/png"/>
  <Override PartName="/ppt/media/image18.wmf" ContentType="image/x-wmf"/>
  <Override PartName="/ppt/media/image20.png" ContentType="image/png"/>
  <Override PartName="/ppt/media/image60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73.wmf" ContentType="image/x-wmf"/>
  <Override PartName="/ppt/media/image3.png" ContentType="image/png"/>
  <Override PartName="/ppt/media/image59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50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14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12.wmf" ContentType="image/x-wmf"/>
  <Override PartName="/ppt/media/image49.wmf" ContentType="image/x-wmf"/>
  <Override PartName="/ppt/media/image8.jpeg" ContentType="image/jpeg"/>
  <Override PartName="/ppt/media/image19.png" ContentType="image/png"/>
  <Override PartName="/ppt/media/image7.png" ContentType="image/png"/>
  <Override PartName="/ppt/media/image41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30A-648B-4EE0-A960-A6CE9495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E1A-4562-4453-A192-81AFEA65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FEBE6-FCE3-4E8E-8D61-C6053FC7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81ECE-54F9-47C2-976A-38006B0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181E2-7596-43C5-9933-8D73858B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2F46F-71A3-4897-8094-7FB0D5A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3D9B-CCA8-4568-8E8E-F5D4A8B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AB304-E80E-49BE-A87D-C905A4F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4A614-34AF-430D-901A-7B654FC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FF765-51B8-42DA-A363-275DE56D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7F88B-961B-4C55-8366-D7301E42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38289-2EEA-4F5B-BEB5-A7505EA6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8CF-B322-426E-8F7E-EA149D81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6D775-F76A-426A-8749-FDACE746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49741-E560-410F-A73A-B953B60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4DCD7-1D7B-416E-A882-935AB7BE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733DE-78C0-409E-8A09-6D94E46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69529-0BA2-4ECF-8FE7-3BB253AF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897B5-24B5-4556-AFFC-F823EAA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5A274-882E-4F20-8B49-E78A71F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6844D-FE57-417C-ABC8-45FF6D8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6A551-1613-4CFC-8DBA-EE6F1BD1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6E6C0-8563-4494-9136-DCEFE6B1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B72-88A6-4DCB-B2CB-F2BA08D3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676F6-2059-464E-B8D5-88865EB5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8E9BE-2EB0-4EF1-9A1A-D987B946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517E-8BDF-462C-BDA7-8487E89F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92936-99A9-4047-8C6C-24D35E11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426FC-4F08-48B4-A0D5-6B903471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37BA6-C898-4EBF-9B0F-FF22342A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99B56-AA89-49D6-8FFE-1E54CFFB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ECB37-FEBB-4B1D-B5F5-46F674F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5697-C7F1-4019-872F-E7B4A45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926D8-9E1E-4F6D-A562-B2430C8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2965-9532-4479-88D8-3C9B13DE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4EB07-A461-42BD-BA72-11D844A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81EBD-9AD4-4634-8F7A-CECF123A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3B6FB-BFC9-4E81-9459-1386B5E1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674CC-13CA-4B80-BA90-4D3074D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E319A-93C5-4A65-AF65-9DAA3157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812B4-1AFB-401C-B355-F8B6363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37CB2-D822-4785-B4A3-9B82E6E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44C33-F6D3-4A73-9885-1E912CFD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FD7DA-0A53-46AA-9893-99D6DA9A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254D7-9A51-488A-B174-88AA1C2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E684-E48E-448A-B38B-95442E73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1432A-B253-40B5-A67A-FD95CC36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0014F-389B-41B1-9275-999630A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0F952-1F69-4A91-9427-4B7FA423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51996-90DF-4F44-B705-81E285C4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FE5A3-BF39-43C7-8DD3-A9B7E5D7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C8561-461A-4F2A-AD7A-E1FEE410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89A57-6E65-46FE-8FFF-CA1B918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3E660-740B-4B0B-AFE1-9BE55D0A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E63F7-95E3-401D-9F28-4C096FA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2828C-6FBF-4A46-A744-EDCAFEEF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5E28-ED8B-4F55-82F0-FC6AD87E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B9A9F-8D42-4967-AD0C-BB347F8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7D72E-194B-40E5-AA02-730862F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87AB2-215A-43E3-942E-C7D317E4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8E019-ACCC-4838-9F96-7ADFA89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4BC22-D07F-4B04-85DA-5274F391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1936E-DF33-4646-BBBF-672A8993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7EF8F-8605-4BBE-88D1-C14C99F3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4E545-46B7-4C00-8A03-92D6C626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78F65-CFB4-42B3-B5E1-0A2E52F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382D5-E21E-4542-9A96-DACC0FE8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F7DC-1509-489A-8BBF-56D486FD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31D5E-46F4-48E7-89A7-F857C89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BE33C-6D67-4428-91D4-FED241D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641EA-BF49-4292-A7FF-96EF377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E38A9-73CD-4D41-A151-07FDB09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3B074-5518-4DC3-A323-F6CF73D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E31D4-77D5-4BD4-BBA1-62356868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21CD6-EC95-48C7-B797-744D7BE0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BE8D3-75BB-427F-BBB0-0429D8A0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C1C94-72F5-4290-87D8-9A72A1BE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DB5-9DE0-4256-A184-F0993D27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F7BC-8E6A-4A6A-A534-3E649E4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3CEC-FE0A-48B3-BF24-78D5DAD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41B-A509-4BDC-9DC3-A9746436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379C-626E-41CD-A5F5-133D137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D2CC-FA7B-4BB3-B7B5-3D87269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776-D4AC-480C-AEDB-A02B413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E6A9-547E-4F13-8698-9B7B8532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D21E-8F2B-40AF-A321-D77F665D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0CA9-1048-48EE-85FB-33DF08AD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D938-DF66-4BBD-89BC-1CC7EA1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EACD-2815-4EFF-965D-80336214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C82E-AE91-46A7-87D0-A4D427B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255B-D2F2-4E3D-9A89-30052AC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90F-95E9-47DD-ABBF-83D3830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2CCD-1A09-46DC-89A0-10159520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A8C2-9E52-4F21-80D7-D2A5636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6E48-B975-48CE-A34B-AC64B10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EA92-85D8-4C92-91A3-113AEB0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75D7-A1C7-43D8-AC02-6429BF9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2FA3-C70D-4A69-B34E-D80C2C30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B2EC-79A5-4509-AA71-8FC6F66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4B99-554E-4E5C-AC49-952F9B31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3C05-D960-4855-AEB9-ED08D8E5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1CCF-B384-4EDD-8CE2-257F3730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8F7-83ED-432B-A4A6-94572152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C443-5825-419E-8959-1230C80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D950-D7FA-4A97-8250-C73EC0E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C378-6CD1-4925-81C5-D35F6559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B336-B31A-4C21-8ECC-5D4459B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48223-873A-4052-848B-18FC8FC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4126-8B62-4CC1-A4D2-085180A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AB66-A96E-4B5E-A2D5-9D5C985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CC8E-B66D-44A4-8AD2-05F65A6A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3385-5A8E-4B98-82A9-1696D879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32BD-251D-4DE6-BA05-737906E9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88E-06D2-45EE-AC86-FAA00314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30B7-3AFC-4EA6-A779-9B918C5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0C3A9-E7E8-4F53-A58B-F3956B1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1DBB-D415-467D-B5DB-FE1DFF7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A9B82-19EB-4D61-80E4-BACE706E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9359-BB18-41FF-982E-620F238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A9EC-AEF3-4858-ABEA-54D9C42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A2FB-CEEA-4B08-93B0-B706781C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95CB-120A-4877-BF16-C7E3928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C8D5-AE54-4948-BEE2-985117A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7B75-8579-4DFE-BFEE-8F681123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29D-6B18-45C2-A51A-3120555D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43C1-2A46-4B57-835F-9E809A1A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47D0-0C2D-4C4B-BA6B-F8E469C4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4093-D309-4A5A-8E97-B4FBA5B6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AB96-741A-42AD-B128-224B397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25E7-7E4F-4CA6-A4BD-1D106D9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497E-2F02-4C8F-8361-BE26E00B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0831-6E0A-4CF7-B7E0-3F14411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CF270-17E6-4B29-A49A-4D1B17A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5BA2-3F7C-41AF-875A-547D6FCF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964B-6674-451D-A153-C3FE225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F7E-2A07-4CF7-B252-8F28BA3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3560-03FD-4FE8-B307-94F3149E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9F16-3E50-4AA8-8E11-EFC50C2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E757-8053-4928-9C5E-6F614C05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DE27C-6D6C-4690-9A63-3E1B0D50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EDA90-30AC-4246-9C9F-A3821CC2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ABE6A-2774-489F-ABB1-CF5D340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BDCC-3099-4378-8BB9-5BF90E9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E4F6-C0E5-444C-ABC4-84A93B3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5CE8-2FB7-4CD0-93DA-752FE99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C5DB6-1DDC-4CFE-81B2-BB777A9F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3DA-3F24-4FB2-970E-DE10DCE5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73F95-D947-40E8-8E16-8A4A8E6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C865-5C4B-47C4-82C3-A79C452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F04D-319A-4A13-933E-934C440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48AD0-DEFE-4331-A2FC-FC5FB8AF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971A-29BA-4476-AAB1-D504714C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C25E-4A79-465C-9DFE-4AEA57FD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8767E-5481-4CDD-90BD-2A5BCDF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9E0FB-C2E5-4148-B784-82DBE6F2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0F830-5018-435D-8F0D-16D1DA33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8D0C-50A3-443E-B9C6-EAAB7BD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2F0-CF28-4711-8BA2-AE01F4B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1FDF3-6DE7-4CDE-ABFF-320A24FD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FC7E-B00B-43D1-B01B-49CC5A55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B9764-55D8-430B-9A3A-0D0B8B6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47003-2871-4544-9567-E889773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EDD3D-74A7-4EA7-90EF-E637CE63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B9088-8C52-4B44-9BFB-13416EB4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A350B-0A12-4871-875F-6D78C529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CD574-A492-4D5F-BE87-9A5AC26F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BC8E0-0575-4C62-ADF5-E87C63DB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53FEA-A56A-4CF9-9CF4-F507D7B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FE01-CA3A-4972-B5F0-FBC4C53C47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537-4224-4A47-9BFA-B2707D3C9B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449-6A23-4F6A-BFD6-92D53BFB0D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66F-31AE-4538-A1B4-7F7AD66CB1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0D04-E7A3-4D49-B2FB-9792F092D5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BDE-DD24-456D-9223-16582A02E1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7C8C-4F7C-4C32-B0AD-BA1A59A6BE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F8A-A1FE-40F2-BDAA-690270D3C1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1A70-6CDB-4F0A-B653-7EB672D788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D8D-1897-46D0-8CB3-63E1934D3A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DAA3-F52E-4DC0-8FF0-0BD0171EA7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4C4D-9A37-485B-A7E4-238468F754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32E-D795-481A-926B-BDC807BDD4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CBB5-9CFC-4320-8BB8-C06C9653F4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182520" y="1125360"/>
            <a:ext cx="4572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окрим путем се дели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у катјон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у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182520" y="2708280"/>
            <a:ext cx="82090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е особине на основу којих се одређује присутност неке супстанце могу бити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боје услед 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ења обојеног једињења у раствору (и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ње боје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 талог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 боје и хемијских особина или растварање тало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 га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их физичких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а, боје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емијских особин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ајање једињења карактеристичног мири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182160" y="213372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карактеристике аналитичких реак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гранична концентрациј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а концентрација (γ) је најмања концентрација у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при којој супстанца (јон) може поуздано да се докаже одређеном реакциј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68360" y="1125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е карактеристике аналитичких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3"/>
          <p:cNvSpPr/>
          <p:nvPr/>
        </p:nvSpPr>
        <p:spPr>
          <a:xfrm>
            <a:off x="252360" y="1143000"/>
            <a:ext cx="889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нос одвијања аналитичке реакције и количине испитиване супстанце) реакције може да се изрази  и као гранично разблажењ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представља 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запремину в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којој још може да се докаже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испитивањ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Object 5"/>
          <p:cNvGraphicFramePr/>
          <p:nvPr/>
        </p:nvGraphicFramePr>
        <p:xfrm>
          <a:off x="2714760" y="3071880"/>
          <a:ext cx="145728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071880"/>
                    <a:ext cx="14572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 Box 8"/>
          <p:cNvSpPr/>
          <p:nvPr/>
        </p:nvSpPr>
        <p:spPr>
          <a:xfrm>
            <a:off x="182520" y="4221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ципрочна вредност граничне концентр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179280" y="4869000"/>
            <a:ext cx="86756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значи да калијум може да се докаже и онда, када 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g K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растворен 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000 cm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Straight Arrow Connector 6"/>
          <p:cNvCxnSpPr/>
          <p:nvPr/>
        </p:nvCxnSpPr>
        <p:spPr>
          <a:xfrm>
            <a:off x="2052360" y="5084280"/>
            <a:ext cx="8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5" name="Rectangle 7"/>
          <p:cNvSpPr/>
          <p:nvPr/>
        </p:nvSpPr>
        <p:spPr>
          <a:xfrm>
            <a:off x="5000760" y="31431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чн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182520" y="1214280"/>
            <a:ext cx="856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шћ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тичке реакције подразумевамо, да је та реакција карактеристична само за једну врсту јона, односно молеку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 који даје ту реакцију ј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реагенс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кроб је специфични реагенс за јод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"/>
          <p:cNvSpPr/>
          <p:nvPr/>
        </p:nvSpPr>
        <p:spPr>
          <a:xfrm>
            <a:off x="214200" y="2928960"/>
            <a:ext cx="8496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е реакциј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оне реакције код којих ограничени број јона (3 од 5 јона) даје са неким реагенсом идентичну реакцију. Реагенси који дају селективне реакције се зову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и реагенс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је су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које су карактеристичне за јоне сличних особина (реакција таложења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214200" y="5000760"/>
            <a:ext cx="849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датим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 са примењеним реагенсом реагује већ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ро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тим услов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е реакције се називај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ним реакцијам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мењени реагенс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ним реагенсо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"/>
          <p:cNvSpPr/>
          <p:nvPr/>
        </p:nvSpPr>
        <p:spPr>
          <a:xfrm>
            <a:off x="437040" y="1126080"/>
            <a:ext cx="83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вајања и маскирања у квалитативној анали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182520" y="1916280"/>
            <a:ext cx="8961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реакција није специфична због чега је често неопходно из узорка издвојити супстанцу која се доказује или супстанце које сметају доказивањ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двајање се корист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разне методе као што су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е, екстракција, дестилација, хроматографија и друге метод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179280" y="3573360"/>
            <a:ext cx="8785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њ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е супстанце подразумева снижавање њене концентрације до степена када се њене карактеристичне физичке и хемијске особине не испољавају у мери која би сметала доказивање или одређивање других супстанц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5"/>
          <p:cNvSpPr/>
          <p:nvPr/>
        </p:nvSpPr>
        <p:spPr>
          <a:xfrm>
            <a:off x="182520" y="5157720"/>
            <a:ext cx="8425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ње се најчешће остварује везивањем компоненте која омета анализу у стабилан комплекс, применом одговарајућег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јућег реагенс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"/>
          <p:cNvSpPr/>
          <p:nvPr/>
        </p:nvSpPr>
        <p:spPr>
          <a:xfrm>
            <a:off x="182520" y="1037880"/>
            <a:ext cx="881856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меши са више катјон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е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ств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ферентног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естан број реакција неће бити могућ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олико смеша садржи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 и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  а желимо да изведемо реакцију са тиоцијанато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SC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амно-црвени комплекс који гради гвожђе нам неће дозволити да уочимо присуство плавог комплекса који гради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Co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- пл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Fe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- цр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том случају је потребно увести маскирајући реагенс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 аликвот узорка који садржи ове јоне треба додати изоамил-алкохол и натријум-флуорид. Појавиће се плави слој који показује присуство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Fe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+ 6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→ [ Fe(F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+6SC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кирајући реагенс у овом случају је 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ј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2843280" y="105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арање уз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179280" y="1773360"/>
            <a:ext cx="8748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истемске анализе катјона узорак се најпре раствара у води. Ако се узорак потпуно не раствара у води користе се минералне киселин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ксидујуће киселине (HC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ујуће киселине (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c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c. H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179280" y="342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 се прво врши разблаженим, а затим концентрованим киселинама, прво на хладно, а затим уз загре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182520" y="45086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астворљивости се врши са малим количинама узорка (око 0,01 m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182520" y="5516640"/>
            <a:ext cx="8425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узорак не раствара у киселинама врши се топљење са базним или киселим реагенсима (са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OH, K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1"/>
          <p:cNvSpPr/>
          <p:nvPr/>
        </p:nvSpPr>
        <p:spPr>
          <a:xfrm>
            <a:off x="179280" y="1341360"/>
            <a:ext cx="8640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анализе анјона узорак се обрађује  са вишком раствора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би се катјони сталожил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лањају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арбонати или хидрокси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2"/>
          <p:cNvSpPr/>
          <p:nvPr/>
        </p:nvSpPr>
        <p:spPr>
          <a:xfrm>
            <a:off x="179280" y="256536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т се назива содни раств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утралише с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ом киселином, процеди евентуално заостали талог и бистри раствор испитује на анј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"/>
          <p:cNvSpPr/>
          <p:nvPr/>
        </p:nvSpPr>
        <p:spPr>
          <a:xfrm>
            <a:off x="1979640" y="112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ска анализа 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179280" y="1844640"/>
            <a:ext cx="8713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а квалитативна анализа се примењује за раздвајање и јона и уклањање сметњи при њиховом појединачном доказивању и изводи се тако што се катјони и анјони узорка сукцесивним таложењем групним реагенсима раздвајају у аналитичке групе, а затим идентификују појединачни јо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"/>
          <p:cNvSpPr/>
          <p:nvPr/>
        </p:nvSpPr>
        <p:spPr>
          <a:xfrm>
            <a:off x="179280" y="4005360"/>
            <a:ext cx="8640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метода системске анализе од којих је најпознатија и са највећом примен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-сулфидна мет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у раздвајању катјона у шест аналитичких група таложењем хлоридом, сулфидом (у киселој и амонијачној средини), амонијаком и карбон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Box 1"/>
          <p:cNvSpPr/>
          <p:nvPr/>
        </p:nvSpPr>
        <p:spPr>
          <a:xfrm>
            <a:off x="179280" y="1484280"/>
            <a:ext cx="87138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а разблаженом хлороводоничном киселином граде слабо растворне хлори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чији су сулфиди врло мало растворни и таложе се из хлоридо-киселих раствора водоник-сулфидом (IIa и II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присуству амонијум-хлорида амонијаком таложе као хидрокс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таложе амонијум-сулфидом као слабо растворни сулф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у присуству амонијум-хлорида таложе амонијум-карбонатом као слабо растворни карбона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немају заједнички реагенс и који остају у филтрату после одвајања свих пет претходних гру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3"/>
          <p:cNvSpPr/>
          <p:nvPr/>
        </p:nvSpPr>
        <p:spPr>
          <a:xfrm>
            <a:off x="274680" y="1916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а хем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ка која се бави утврђивањем хемијског састава супстанци или смеш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274680" y="1197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лагање целине на њене саставне де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Diagram 9" descr=""/>
          <p:cNvPicPr/>
          <p:nvPr/>
        </p:nvPicPr>
        <p:blipFill>
          <a:blip r:embed="rId1"/>
          <a:stretch/>
        </p:blipFill>
        <p:spPr>
          <a:xfrm>
            <a:off x="146160" y="3492360"/>
            <a:ext cx="8716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Diagram 5" descr=""/>
          <p:cNvPicPr/>
          <p:nvPr/>
        </p:nvPicPr>
        <p:blipFill>
          <a:blip r:embed="rId1"/>
          <a:stretch/>
        </p:blipFill>
        <p:spPr>
          <a:xfrm>
            <a:off x="480960" y="1335240"/>
            <a:ext cx="7626240" cy="5553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8"/>
          <p:cNvSpPr/>
          <p:nvPr/>
        </p:nvSpPr>
        <p:spPr>
          <a:xfrm>
            <a:off x="4211640" y="233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M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4211640" y="342900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рућа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0"/>
          <p:cNvSpPr/>
          <p:nvPr/>
        </p:nvSpPr>
        <p:spPr>
          <a:xfrm>
            <a:off x="4427640" y="471492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1"/>
          <p:cNvSpPr/>
          <p:nvPr/>
        </p:nvSpPr>
        <p:spPr>
          <a:xfrm>
            <a:off x="6875640" y="4714920"/>
            <a:ext cx="122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2"/>
          <p:cNvSpPr/>
          <p:nvPr/>
        </p:nvSpPr>
        <p:spPr>
          <a:xfrm>
            <a:off x="2484360" y="47242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"/>
          <p:cNvSpPr/>
          <p:nvPr/>
        </p:nvSpPr>
        <p:spPr>
          <a:xfrm>
            <a:off x="250920" y="9507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 аналитичке групе -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ни (таложни) реагенс је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C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3"/>
          <p:cNvSpPr/>
          <p:nvPr/>
        </p:nvSpPr>
        <p:spPr>
          <a:xfrm>
            <a:off x="3780000" y="112536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2340000" y="1835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6090840" y="1844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8"/>
          <p:cNvSpPr/>
          <p:nvPr/>
        </p:nvSpPr>
        <p:spPr>
          <a:xfrm>
            <a:off x="2916360" y="155736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9"/>
          <p:cNvSpPr/>
          <p:nvPr/>
        </p:nvSpPr>
        <p:spPr>
          <a:xfrm>
            <a:off x="4427640" y="155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0"/>
          <p:cNvSpPr/>
          <p:nvPr/>
        </p:nvSpPr>
        <p:spPr>
          <a:xfrm>
            <a:off x="2324160" y="22129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Straight Arrow Connector 11"/>
          <p:cNvCxnSpPr/>
          <p:nvPr/>
        </p:nvCxnSpPr>
        <p:spPr>
          <a:xfrm>
            <a:off x="2307960" y="22190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9" name="Straight Arrow Connector 12"/>
          <p:cNvCxnSpPr/>
          <p:nvPr/>
        </p:nvCxnSpPr>
        <p:spPr>
          <a:xfrm>
            <a:off x="7009920" y="2205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0" name="TextBox 8"/>
          <p:cNvSpPr/>
          <p:nvPr/>
        </p:nvSpPr>
        <p:spPr>
          <a:xfrm>
            <a:off x="442764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2M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0"/>
          <p:cNvSpPr/>
          <p:nvPr/>
        </p:nvSpPr>
        <p:spPr>
          <a:xfrm>
            <a:off x="5796000" y="2709720"/>
            <a:ext cx="266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b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,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1"/>
          <p:cNvSpPr/>
          <p:nvPr/>
        </p:nvSpPr>
        <p:spPr>
          <a:xfrm>
            <a:off x="250920" y="2709720"/>
            <a:ext cx="53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, III, IV и V аналитичк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"/>
          <p:cNvSpPr/>
          <p:nvPr/>
        </p:nvSpPr>
        <p:spPr>
          <a:xfrm>
            <a:off x="4735440" y="36036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5"/>
          <p:cNvSpPr/>
          <p:nvPr/>
        </p:nvSpPr>
        <p:spPr>
          <a:xfrm>
            <a:off x="4735440" y="4251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4735440" y="49719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17"/>
          <p:cNvGraphicFramePr/>
          <p:nvPr/>
        </p:nvGraphicFramePr>
        <p:xfrm>
          <a:off x="1925640" y="3274920"/>
          <a:ext cx="5022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3274920"/>
                    <a:ext cx="5022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Rectangle 22"/>
          <p:cNvSpPr/>
          <p:nvPr/>
        </p:nvSpPr>
        <p:spPr>
          <a:xfrm>
            <a:off x="179280" y="1197000"/>
            <a:ext cx="8569440" cy="201600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4"/>
          <p:cNvSpPr/>
          <p:nvPr/>
        </p:nvSpPr>
        <p:spPr>
          <a:xfrm>
            <a:off x="1332000" y="537372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26"/>
          <p:cNvSpPr/>
          <p:nvPr/>
        </p:nvSpPr>
        <p:spPr>
          <a:xfrm>
            <a:off x="421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28"/>
          <p:cNvSpPr/>
          <p:nvPr/>
        </p:nvSpPr>
        <p:spPr>
          <a:xfrm>
            <a:off x="2484360" y="5805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30"/>
          <p:cNvCxnSpPr/>
          <p:nvPr/>
        </p:nvCxnSpPr>
        <p:spPr>
          <a:xfrm>
            <a:off x="2484000" y="5805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32"/>
          <p:cNvCxnSpPr/>
          <p:nvPr/>
        </p:nvCxnSpPr>
        <p:spPr>
          <a:xfrm>
            <a:off x="6227280" y="5805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4" name="Rectangle 14"/>
          <p:cNvSpPr/>
          <p:nvPr/>
        </p:nvSpPr>
        <p:spPr>
          <a:xfrm>
            <a:off x="6233760" y="5661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1476360" y="573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4140360" y="5373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стилована вода, ку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6"/>
          <p:cNvSpPr/>
          <p:nvPr/>
        </p:nvSpPr>
        <p:spPr>
          <a:xfrm>
            <a:off x="2064600" y="6238800"/>
            <a:ext cx="907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bCl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7"/>
          <p:cNvSpPr/>
          <p:nvPr/>
        </p:nvSpPr>
        <p:spPr>
          <a:xfrm>
            <a:off x="5474520" y="6238800"/>
            <a:ext cx="1738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0"/>
          <p:cNvSpPr/>
          <p:nvPr/>
        </p:nvSpPr>
        <p:spPr>
          <a:xfrm>
            <a:off x="5145120" y="3282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1"/>
          <p:cNvSpPr/>
          <p:nvPr/>
        </p:nvSpPr>
        <p:spPr>
          <a:xfrm>
            <a:off x="5218200" y="48276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5"/>
          <p:cNvGraphicFramePr/>
          <p:nvPr/>
        </p:nvGraphicFramePr>
        <p:xfrm>
          <a:off x="1547640" y="2924280"/>
          <a:ext cx="70898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24280"/>
                    <a:ext cx="70898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TextBox 17"/>
          <p:cNvSpPr/>
          <p:nvPr/>
        </p:nvSpPr>
        <p:spPr>
          <a:xfrm>
            <a:off x="896760" y="2843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8"/>
          <p:cNvSpPr/>
          <p:nvPr/>
        </p:nvSpPr>
        <p:spPr>
          <a:xfrm>
            <a:off x="752400" y="43639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70720" y="1874880"/>
            <a:ext cx="208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вор: PbCl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3"/>
          <p:cNvSpPr/>
          <p:nvPr/>
        </p:nvSpPr>
        <p:spPr>
          <a:xfrm>
            <a:off x="3166920" y="213372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: 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2448000" y="2843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536120" y="3645000"/>
            <a:ext cx="175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g(NH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6197040" y="2852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6499800" y="3716280"/>
            <a:ext cx="1047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12"/>
          <p:cNvSpPr/>
          <p:nvPr/>
        </p:nvSpPr>
        <p:spPr>
          <a:xfrm>
            <a:off x="3024360" y="256536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14"/>
          <p:cNvSpPr/>
          <p:nvPr/>
        </p:nvSpPr>
        <p:spPr>
          <a:xfrm>
            <a:off x="4535640" y="2565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16"/>
          <p:cNvSpPr/>
          <p:nvPr/>
        </p:nvSpPr>
        <p:spPr>
          <a:xfrm>
            <a:off x="2432160" y="32209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18"/>
          <p:cNvCxnSpPr/>
          <p:nvPr/>
        </p:nvCxnSpPr>
        <p:spPr>
          <a:xfrm>
            <a:off x="2415960" y="32270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5" name="Straight Arrow Connector 19"/>
          <p:cNvCxnSpPr/>
          <p:nvPr/>
        </p:nvCxnSpPr>
        <p:spPr>
          <a:xfrm>
            <a:off x="7117920" y="3213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Rectangle 20"/>
          <p:cNvSpPr/>
          <p:nvPr/>
        </p:nvSpPr>
        <p:spPr>
          <a:xfrm>
            <a:off x="4535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до базне ре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2"/>
          <p:cNvSpPr/>
          <p:nvPr/>
        </p:nvSpPr>
        <p:spPr>
          <a:xfrm>
            <a:off x="1079640" y="2133720"/>
            <a:ext cx="6984720" cy="20872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4"/>
          <p:cNvSpPr/>
          <p:nvPr/>
        </p:nvSpPr>
        <p:spPr>
          <a:xfrm>
            <a:off x="199080" y="4195800"/>
            <a:ext cx="109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2"/>
          <p:cNvGraphicFramePr/>
          <p:nvPr/>
        </p:nvGraphicFramePr>
        <p:xfrm>
          <a:off x="237960" y="4587840"/>
          <a:ext cx="875520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4587840"/>
                    <a:ext cx="87552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TextBox 9"/>
          <p:cNvSpPr/>
          <p:nvPr/>
        </p:nvSpPr>
        <p:spPr>
          <a:xfrm>
            <a:off x="5680080" y="5722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(II)-амидо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ight Brace 6"/>
          <p:cNvSpPr/>
          <p:nvPr/>
        </p:nvSpPr>
        <p:spPr>
          <a:xfrm rot="5400000">
            <a:off x="7611120" y="5313960"/>
            <a:ext cx="338040" cy="1895760"/>
          </a:xfrm>
          <a:custGeom>
            <a:avLst/>
            <a:gdLst>
              <a:gd name="textAreaLeft" fmla="*/ 0 w 338040"/>
              <a:gd name="textAreaRight" fmla="*/ 122040 w 338040"/>
              <a:gd name="textAreaTop" fmla="*/ 8640 h 1895760"/>
              <a:gd name="textAreaBottom" fmla="*/ 1887120 h 189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16200" y="10800"/>
                  <a:pt x="21600" y="10800"/>
                </a:cubicBezTo>
                <a:cubicBezTo>
                  <a:pt x="162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6"/>
          <p:cNvSpPr/>
          <p:nvPr/>
        </p:nvSpPr>
        <p:spPr>
          <a:xfrm>
            <a:off x="6761160" y="6280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црне бо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"/>
          <p:cNvSpPr/>
          <p:nvPr/>
        </p:nvSpPr>
        <p:spPr>
          <a:xfrm>
            <a:off x="206280" y="9763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во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Object 2"/>
          <p:cNvGraphicFramePr/>
          <p:nvPr/>
        </p:nvGraphicFramePr>
        <p:xfrm>
          <a:off x="1503360" y="1407960"/>
          <a:ext cx="554364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3360" y="1407960"/>
                    <a:ext cx="5543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3"/>
          <p:cNvGraphicFramePr/>
          <p:nvPr/>
        </p:nvGraphicFramePr>
        <p:xfrm>
          <a:off x="782640" y="2200320"/>
          <a:ext cx="773100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2640" y="2200320"/>
                    <a:ext cx="7731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Box 7"/>
          <p:cNvSpPr/>
          <p:nvPr/>
        </p:nvSpPr>
        <p:spPr>
          <a:xfrm>
            <a:off x="243000" y="2200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5076720" y="248760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бел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15"/>
          <p:cNvCxnSpPr/>
          <p:nvPr/>
        </p:nvCxnSpPr>
        <p:spPr>
          <a:xfrm>
            <a:off x="6300360" y="21268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832" name="Object 4"/>
          <p:cNvGraphicFramePr/>
          <p:nvPr/>
        </p:nvGraphicFramePr>
        <p:xfrm>
          <a:off x="782640" y="3268800"/>
          <a:ext cx="763272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2640" y="3268800"/>
                    <a:ext cx="7632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TextBox 8"/>
          <p:cNvSpPr/>
          <p:nvPr/>
        </p:nvSpPr>
        <p:spPr>
          <a:xfrm>
            <a:off x="206280" y="324972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4167360" y="3672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бледо жу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Straight Arrow Connector 19"/>
          <p:cNvCxnSpPr/>
          <p:nvPr/>
        </p:nvCxnSpPr>
        <p:spPr>
          <a:xfrm>
            <a:off x="5606640" y="32079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1"/>
          <p:cNvSpPr/>
          <p:nvPr/>
        </p:nvSpPr>
        <p:spPr>
          <a:xfrm>
            <a:off x="147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"/>
          <p:cNvSpPr/>
          <p:nvPr/>
        </p:nvSpPr>
        <p:spPr>
          <a:xfrm>
            <a:off x="1476360" y="256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3"/>
          <p:cNvSpPr/>
          <p:nvPr/>
        </p:nvSpPr>
        <p:spPr>
          <a:xfrm>
            <a:off x="1187280" y="3933720"/>
            <a:ext cx="734544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,  PbS,  CuS,  CdS, 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     црн    црн     жут    мрк       жут      жут     наранџа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755640" y="602136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,  PbS,  CuS,  CdS, 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5033520" y="5950080"/>
            <a:ext cx="4010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"/>
          <p:cNvSpPr/>
          <p:nvPr/>
        </p:nvSpPr>
        <p:spPr>
          <a:xfrm>
            <a:off x="4500720" y="1989000"/>
            <a:ext cx="251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7"/>
          <p:cNvSpPr/>
          <p:nvPr/>
        </p:nvSpPr>
        <p:spPr>
          <a:xfrm>
            <a:off x="4643280" y="32130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8"/>
          <p:cNvSpPr/>
          <p:nvPr/>
        </p:nvSpPr>
        <p:spPr>
          <a:xfrm>
            <a:off x="4716360" y="479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10"/>
          <p:cNvSpPr/>
          <p:nvPr/>
        </p:nvSpPr>
        <p:spPr>
          <a:xfrm>
            <a:off x="1116000" y="1989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Straight Arrow Connector 15"/>
          <p:cNvCxnSpPr/>
          <p:nvPr/>
        </p:nvCxnSpPr>
        <p:spPr>
          <a:xfrm>
            <a:off x="4392360" y="19886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7" name="Straight Connector 16"/>
          <p:cNvSpPr/>
          <p:nvPr/>
        </p:nvSpPr>
        <p:spPr>
          <a:xfrm>
            <a:off x="1268280" y="3141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Straight Arrow Connector 17"/>
          <p:cNvCxnSpPr/>
          <p:nvPr/>
        </p:nvCxnSpPr>
        <p:spPr>
          <a:xfrm>
            <a:off x="4427280" y="314280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9" name="Straight Connector 18"/>
          <p:cNvSpPr/>
          <p:nvPr/>
        </p:nvSpPr>
        <p:spPr>
          <a:xfrm>
            <a:off x="1403280" y="4797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21"/>
          <p:cNvSpPr/>
          <p:nvPr/>
        </p:nvSpPr>
        <p:spPr>
          <a:xfrm>
            <a:off x="442764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23"/>
          <p:cNvSpPr/>
          <p:nvPr/>
        </p:nvSpPr>
        <p:spPr>
          <a:xfrm>
            <a:off x="2627280" y="522936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Straight Arrow Connector 24"/>
          <p:cNvCxnSpPr/>
          <p:nvPr/>
        </p:nvCxnSpPr>
        <p:spPr>
          <a:xfrm>
            <a:off x="2626920" y="52304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3" name="Straight Arrow Connector 25"/>
          <p:cNvCxnSpPr/>
          <p:nvPr/>
        </p:nvCxnSpPr>
        <p:spPr>
          <a:xfrm>
            <a:off x="6297120" y="52304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4" name="TextBox 26"/>
          <p:cNvSpPr/>
          <p:nvPr/>
        </p:nvSpPr>
        <p:spPr>
          <a:xfrm>
            <a:off x="1476360" y="5589720"/>
            <a:ext cx="25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сулфоб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7"/>
          <p:cNvSpPr/>
          <p:nvPr/>
        </p:nvSpPr>
        <p:spPr>
          <a:xfrm>
            <a:off x="5040360" y="5589720"/>
            <a:ext cx="30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сулфо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8"/>
          <p:cNvSpPr/>
          <p:nvPr/>
        </p:nvSpPr>
        <p:spPr>
          <a:xfrm>
            <a:off x="298440" y="981000"/>
            <a:ext cx="88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 аналитичке групе-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ни (таложни) реагенс је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9"/>
          <p:cNvSpPr/>
          <p:nvPr/>
        </p:nvSpPr>
        <p:spPr>
          <a:xfrm>
            <a:off x="3982320" y="3500280"/>
            <a:ext cx="94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>
            <a:lum bright="-10000"/>
          </a:blip>
          <a:srcRect l="7468" t="19316" r="79805" b="25566"/>
          <a:stretch/>
        </p:blipFill>
        <p:spPr>
          <a:xfrm>
            <a:off x="684360" y="3205080"/>
            <a:ext cx="885600" cy="21607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"/>
          <p:cNvPicPr/>
          <p:nvPr/>
        </p:nvPicPr>
        <p:blipFill>
          <a:blip r:embed="rId2">
            <a:lum bright="-10000"/>
          </a:blip>
          <a:srcRect l="36166" t="26914" r="51663" b="18504"/>
          <a:stretch/>
        </p:blipFill>
        <p:spPr>
          <a:xfrm>
            <a:off x="2050920" y="3278160"/>
            <a:ext cx="828720" cy="2087640"/>
          </a:xfrm>
          <a:prstGeom prst="rect">
            <a:avLst/>
          </a:prstGeom>
          <a:ln w="0">
            <a:noFill/>
          </a:ln>
        </p:spPr>
      </p:pic>
      <p:sp>
        <p:nvSpPr>
          <p:cNvPr id="860" name="TextBox 4"/>
          <p:cNvSpPr/>
          <p:nvPr/>
        </p:nvSpPr>
        <p:spPr>
          <a:xfrm>
            <a:off x="1042920" y="5797440"/>
            <a:ext cx="2305080" cy="1008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 растворни сулфиди IIА и IIВ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6"/>
          <p:cNvSpPr/>
          <p:nvPr/>
        </p:nvSpPr>
        <p:spPr>
          <a:xfrm flipV="1">
            <a:off x="1992240" y="5294160"/>
            <a:ext cx="28908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8"/>
          <p:cNvSpPr/>
          <p:nvPr/>
        </p:nvSpPr>
        <p:spPr>
          <a:xfrm>
            <a:off x="1979640" y="54338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0"/>
          <p:cNvSpPr/>
          <p:nvPr/>
        </p:nvSpPr>
        <p:spPr>
          <a:xfrm flipV="1">
            <a:off x="1116000" y="284472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4"/>
          <p:cNvSpPr/>
          <p:nvPr/>
        </p:nvSpPr>
        <p:spPr>
          <a:xfrm>
            <a:off x="1116000" y="2844720"/>
            <a:ext cx="1295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Straight Arrow Connector 16"/>
          <p:cNvCxnSpPr/>
          <p:nvPr/>
        </p:nvCxnSpPr>
        <p:spPr>
          <a:xfrm>
            <a:off x="2410920" y="2844360"/>
            <a:ext cx="108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66" name="TextBox 17"/>
          <p:cNvSpPr/>
          <p:nvPr/>
        </p:nvSpPr>
        <p:spPr>
          <a:xfrm>
            <a:off x="468360" y="2197080"/>
            <a:ext cx="31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агенс -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Object 3"/>
          <p:cNvGraphicFramePr/>
          <p:nvPr/>
        </p:nvGraphicFramePr>
        <p:xfrm>
          <a:off x="3759120" y="2197080"/>
          <a:ext cx="506088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9120" y="2197080"/>
                    <a:ext cx="50608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ctangle 20"/>
          <p:cNvSpPr/>
          <p:nvPr/>
        </p:nvSpPr>
        <p:spPr>
          <a:xfrm>
            <a:off x="182520" y="112536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катјона су теже растворни (мањ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д сулфи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катј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C:\Users\Maca\Desktop\Untitled15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38240" y="3497400"/>
            <a:ext cx="847440" cy="21524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C:\Users\Maca\Desktop\Untitled16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1001880" y="3444840"/>
            <a:ext cx="806400" cy="2235240"/>
          </a:xfrm>
          <a:prstGeom prst="rect">
            <a:avLst/>
          </a:prstGeom>
          <a:ln w="0">
            <a:noFill/>
          </a:ln>
        </p:spPr>
      </p:pic>
      <p:sp>
        <p:nvSpPr>
          <p:cNvPr id="872" name="Straight Connector 5"/>
          <p:cNvSpPr/>
          <p:nvPr/>
        </p:nvSpPr>
        <p:spPr>
          <a:xfrm flipV="1">
            <a:off x="498600" y="320832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6"/>
          <p:cNvSpPr/>
          <p:nvPr/>
        </p:nvSpPr>
        <p:spPr>
          <a:xfrm>
            <a:off x="498600" y="3208320"/>
            <a:ext cx="9172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Straight Arrow Connector 13"/>
          <p:cNvCxnSpPr/>
          <p:nvPr/>
        </p:nvCxnSpPr>
        <p:spPr>
          <a:xfrm>
            <a:off x="1424160" y="3207960"/>
            <a:ext cx="10080" cy="284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75" name="TextBox 14"/>
          <p:cNvSpPr/>
          <p:nvPr/>
        </p:nvSpPr>
        <p:spPr>
          <a:xfrm>
            <a:off x="65160" y="27050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3">
            <a:lum bright="-10000"/>
          </a:blip>
          <a:srcRect l="10235" t="24237" r="77038" b="19656"/>
          <a:stretch/>
        </p:blipFill>
        <p:spPr>
          <a:xfrm>
            <a:off x="2801880" y="3371760"/>
            <a:ext cx="922320" cy="2284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4">
            <a:lum bright="-10000"/>
          </a:blip>
          <a:srcRect l="43913" t="32283" r="34506" b="8656"/>
          <a:stretch/>
        </p:blipFill>
        <p:spPr>
          <a:xfrm>
            <a:off x="3738600" y="3371760"/>
            <a:ext cx="1581120" cy="2433600"/>
          </a:xfrm>
          <a:prstGeom prst="rect">
            <a:avLst/>
          </a:prstGeom>
          <a:ln w="0">
            <a:noFill/>
          </a:ln>
        </p:spPr>
      </p:pic>
      <p:sp>
        <p:nvSpPr>
          <p:cNvPr id="878" name="TextBox 17"/>
          <p:cNvSpPr/>
          <p:nvPr/>
        </p:nvSpPr>
        <p:spPr>
          <a:xfrm>
            <a:off x="2268360" y="134136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ње IIA и IIB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iped Right Arrow 19"/>
          <p:cNvSpPr/>
          <p:nvPr/>
        </p:nvSpPr>
        <p:spPr>
          <a:xfrm>
            <a:off x="1865160" y="4308480"/>
            <a:ext cx="865440" cy="360360"/>
          </a:xfrm>
          <a:custGeom>
            <a:avLst/>
            <a:gdLst>
              <a:gd name="textAreaLeft" fmla="*/ 56160 w 865440"/>
              <a:gd name="textAreaRight" fmla="*/ 775440 w 865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865187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close/>
                <a:moveTo>
                  <a:pt x="56307" y="90091"/>
                </a:moveTo>
                <a:lnTo>
                  <a:pt x="685006" y="90091"/>
                </a:lnTo>
                <a:lnTo>
                  <a:pt x="685006" y="0"/>
                </a:lnTo>
                <a:lnTo>
                  <a:pt x="865187" y="180182"/>
                </a:lnTo>
                <a:lnTo>
                  <a:pt x="685006" y="360363"/>
                </a:lnTo>
                <a:lnTo>
                  <a:pt x="685006" y="270272"/>
                </a:lnTo>
                <a:lnTo>
                  <a:pt x="56307" y="270272"/>
                </a:lnTo>
                <a:close/>
              </a:path>
            </a:pathLst>
          </a:cu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0"/>
          <p:cNvSpPr/>
          <p:nvPr/>
        </p:nvSpPr>
        <p:spPr>
          <a:xfrm flipV="1">
            <a:off x="3224160" y="3155760"/>
            <a:ext cx="0" cy="215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1"/>
          <p:cNvSpPr/>
          <p:nvPr/>
        </p:nvSpPr>
        <p:spPr>
          <a:xfrm>
            <a:off x="3224160" y="3156120"/>
            <a:ext cx="9460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2" name="Straight Arrow Connector 22"/>
          <p:cNvCxnSpPr/>
          <p:nvPr/>
        </p:nvCxnSpPr>
        <p:spPr>
          <a:xfrm>
            <a:off x="4169880" y="3155760"/>
            <a:ext cx="10440" cy="284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83" name="TextBox 23"/>
          <p:cNvSpPr/>
          <p:nvPr/>
        </p:nvSpPr>
        <p:spPr>
          <a:xfrm>
            <a:off x="3054240" y="2652840"/>
            <a:ext cx="16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. 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6" descr=""/>
          <p:cNvPicPr/>
          <p:nvPr/>
        </p:nvPicPr>
        <p:blipFill>
          <a:blip r:embed="rId5">
            <a:lum bright="-10000"/>
          </a:blip>
          <a:srcRect l="6831" t="22441" r="80994" b="21452"/>
          <a:stretch/>
        </p:blipFill>
        <p:spPr>
          <a:xfrm>
            <a:off x="5538960" y="3371760"/>
            <a:ext cx="917280" cy="2376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"/>
          <p:cNvPicPr/>
          <p:nvPr/>
        </p:nvPicPr>
        <p:blipFill>
          <a:blip r:embed="rId6">
            <a:lum bright="-10000"/>
          </a:blip>
          <a:srcRect l="35612" t="29995" r="52767" b="15546"/>
          <a:stretch/>
        </p:blipFill>
        <p:spPr>
          <a:xfrm>
            <a:off x="6634080" y="3371760"/>
            <a:ext cx="901800" cy="23767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7">
            <a:lum bright="-10000"/>
          </a:blip>
          <a:srcRect l="64753" t="32456" r="24182" b="11437"/>
          <a:stretch/>
        </p:blipFill>
        <p:spPr>
          <a:xfrm>
            <a:off x="8131320" y="3300480"/>
            <a:ext cx="833400" cy="2376360"/>
          </a:xfrm>
          <a:prstGeom prst="rect">
            <a:avLst/>
          </a:prstGeom>
          <a:ln w="0">
            <a:noFill/>
          </a:ln>
        </p:spPr>
      </p:pic>
      <p:sp>
        <p:nvSpPr>
          <p:cNvPr id="887" name="Straight Connector 30"/>
          <p:cNvSpPr/>
          <p:nvPr/>
        </p:nvSpPr>
        <p:spPr>
          <a:xfrm flipV="1">
            <a:off x="6049800" y="308448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31"/>
          <p:cNvSpPr/>
          <p:nvPr/>
        </p:nvSpPr>
        <p:spPr>
          <a:xfrm>
            <a:off x="6049800" y="3084480"/>
            <a:ext cx="944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Straight Arrow Connector 32"/>
          <p:cNvCxnSpPr/>
          <p:nvPr/>
        </p:nvCxnSpPr>
        <p:spPr>
          <a:xfrm>
            <a:off x="6994080" y="3084120"/>
            <a:ext cx="10440" cy="28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90" name="TextBox 33"/>
          <p:cNvSpPr/>
          <p:nvPr/>
        </p:nvSpPr>
        <p:spPr>
          <a:xfrm>
            <a:off x="5664240" y="2579760"/>
            <a:ext cx="190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.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iped Right Arrow 34"/>
          <p:cNvSpPr/>
          <p:nvPr/>
        </p:nvSpPr>
        <p:spPr>
          <a:xfrm>
            <a:off x="7481880" y="4235400"/>
            <a:ext cx="649440" cy="289080"/>
          </a:xfrm>
          <a:custGeom>
            <a:avLst/>
            <a:gdLst>
              <a:gd name="textAreaLeft" fmla="*/ 45000 w 649440"/>
              <a:gd name="textAreaRight" fmla="*/ 577440 w 649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649287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close/>
                <a:moveTo>
                  <a:pt x="45145" y="72231"/>
                </a:moveTo>
                <a:lnTo>
                  <a:pt x="504825" y="72231"/>
                </a:lnTo>
                <a:lnTo>
                  <a:pt x="504825" y="0"/>
                </a:lnTo>
                <a:lnTo>
                  <a:pt x="649287" y="144463"/>
                </a:lnTo>
                <a:lnTo>
                  <a:pt x="504825" y="288925"/>
                </a:lnTo>
                <a:lnTo>
                  <a:pt x="504825" y="216694"/>
                </a:lnTo>
                <a:lnTo>
                  <a:pt x="45145" y="216694"/>
                </a:lnTo>
                <a:close/>
              </a:path>
            </a:pathLst>
          </a:cu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2411280" y="1413000"/>
            <a:ext cx="374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     PbS    B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uS    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      црн    смеђ      црн      ж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760680" y="2925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   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"/>
          <p:cNvSpPr/>
          <p:nvPr/>
        </p:nvSpPr>
        <p:spPr>
          <a:xfrm>
            <a:off x="4838760" y="27813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5" name="Straight Arrow Connector 4"/>
          <p:cNvCxnSpPr/>
          <p:nvPr/>
        </p:nvCxnSpPr>
        <p:spPr>
          <a:xfrm>
            <a:off x="1331640" y="28540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6" name="Straight Arrow Connector 5"/>
          <p:cNvCxnSpPr/>
          <p:nvPr/>
        </p:nvCxnSpPr>
        <p:spPr>
          <a:xfrm>
            <a:off x="305892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7" name="Straight Arrow Connector 6"/>
          <p:cNvCxnSpPr/>
          <p:nvPr/>
        </p:nvCxnSpPr>
        <p:spPr>
          <a:xfrm>
            <a:off x="370800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8" name="Straight Arrow Connector 7"/>
          <p:cNvCxnSpPr/>
          <p:nvPr/>
        </p:nvCxnSpPr>
        <p:spPr>
          <a:xfrm>
            <a:off x="442728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9" name="Straight Arrow Connector 8"/>
          <p:cNvCxnSpPr/>
          <p:nvPr/>
        </p:nvCxnSpPr>
        <p:spPr>
          <a:xfrm>
            <a:off x="514800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0" name="Straight Arrow Connector 9"/>
          <p:cNvCxnSpPr/>
          <p:nvPr/>
        </p:nvCxnSpPr>
        <p:spPr>
          <a:xfrm>
            <a:off x="579564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1" name="Rectangle 10"/>
          <p:cNvSpPr/>
          <p:nvPr/>
        </p:nvSpPr>
        <p:spPr>
          <a:xfrm>
            <a:off x="845640" y="3718080"/>
            <a:ext cx="103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493920" y="61657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1490760" y="6165720"/>
            <a:ext cx="83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1915560" y="5229360"/>
            <a:ext cx="6181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689040" y="515772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л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3348000" y="4068720"/>
            <a:ext cx="24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Bi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3146760" y="5435640"/>
            <a:ext cx="122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b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"/>
          <p:cNvSpPr/>
          <p:nvPr/>
        </p:nvSpPr>
        <p:spPr>
          <a:xfrm>
            <a:off x="4725720" y="5435640"/>
            <a:ext cx="9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3851280" y="5950080"/>
            <a:ext cx="936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9"/>
          <p:cNvSpPr/>
          <p:nvPr/>
        </p:nvSpPr>
        <p:spPr>
          <a:xfrm>
            <a:off x="5233680" y="5950080"/>
            <a:ext cx="767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0"/>
          <p:cNvSpPr/>
          <p:nvPr/>
        </p:nvSpPr>
        <p:spPr>
          <a:xfrm>
            <a:off x="5011200" y="64436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3288960" y="6443640"/>
            <a:ext cx="9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2"/>
          <p:cNvSpPr/>
          <p:nvPr/>
        </p:nvSpPr>
        <p:spPr>
          <a:xfrm>
            <a:off x="1277640" y="3286080"/>
            <a:ext cx="20736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onc. 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3"/>
          <p:cNvSpPr/>
          <p:nvPr/>
        </p:nvSpPr>
        <p:spPr>
          <a:xfrm>
            <a:off x="6170040" y="3213000"/>
            <a:ext cx="12855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4"/>
          <p:cNvSpPr/>
          <p:nvPr/>
        </p:nvSpPr>
        <p:spPr>
          <a:xfrm>
            <a:off x="4493520" y="4691160"/>
            <a:ext cx="988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 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5"/>
          <p:cNvSpPr/>
          <p:nvPr/>
        </p:nvSpPr>
        <p:spPr>
          <a:xfrm>
            <a:off x="4245840" y="2133720"/>
            <a:ext cx="3294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li  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1 :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6"/>
          <p:cNvSpPr/>
          <p:nvPr/>
        </p:nvSpPr>
        <p:spPr>
          <a:xfrm>
            <a:off x="6012000" y="4076640"/>
            <a:ext cx="29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Cd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7"/>
          <p:cNvSpPr/>
          <p:nvPr/>
        </p:nvSpPr>
        <p:spPr>
          <a:xfrm>
            <a:off x="6619320" y="5229360"/>
            <a:ext cx="11376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6030360" y="6443640"/>
            <a:ext cx="14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9"/>
          <p:cNvSpPr/>
          <p:nvPr/>
        </p:nvSpPr>
        <p:spPr>
          <a:xfrm>
            <a:off x="8249400" y="4869000"/>
            <a:ext cx="58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0"/>
          <p:cNvSpPr/>
          <p:nvPr/>
        </p:nvSpPr>
        <p:spPr>
          <a:xfrm>
            <a:off x="7665480" y="5302080"/>
            <a:ext cx="1458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d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1"/>
          <p:cNvSpPr/>
          <p:nvPr/>
        </p:nvSpPr>
        <p:spPr>
          <a:xfrm>
            <a:off x="8325000" y="6021360"/>
            <a:ext cx="479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2"/>
          <p:cNvSpPr/>
          <p:nvPr/>
        </p:nvSpPr>
        <p:spPr>
          <a:xfrm>
            <a:off x="8032680" y="6443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34"/>
          <p:cNvSpPr/>
          <p:nvPr/>
        </p:nvSpPr>
        <p:spPr>
          <a:xfrm>
            <a:off x="1979640" y="20620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36"/>
          <p:cNvSpPr/>
          <p:nvPr/>
        </p:nvSpPr>
        <p:spPr>
          <a:xfrm>
            <a:off x="4140360" y="2062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37"/>
          <p:cNvSpPr/>
          <p:nvPr/>
        </p:nvSpPr>
        <p:spPr>
          <a:xfrm>
            <a:off x="1258920" y="24940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Straight Arrow Connector 39"/>
          <p:cNvCxnSpPr/>
          <p:nvPr/>
        </p:nvCxnSpPr>
        <p:spPr>
          <a:xfrm>
            <a:off x="1258560" y="249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8" name="Straight Arrow Connector 40"/>
          <p:cNvCxnSpPr/>
          <p:nvPr/>
        </p:nvCxnSpPr>
        <p:spPr>
          <a:xfrm>
            <a:off x="6011640" y="249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9" name="Straight Connector 42"/>
          <p:cNvSpPr/>
          <p:nvPr/>
        </p:nvSpPr>
        <p:spPr>
          <a:xfrm>
            <a:off x="395280" y="32860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44"/>
          <p:cNvSpPr/>
          <p:nvPr/>
        </p:nvSpPr>
        <p:spPr>
          <a:xfrm>
            <a:off x="4572000" y="3213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Straight Arrow Connector 45"/>
          <p:cNvCxnSpPr/>
          <p:nvPr/>
        </p:nvCxnSpPr>
        <p:spPr>
          <a:xfrm>
            <a:off x="1258560" y="3285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2" name="Straight Connector 47"/>
          <p:cNvSpPr/>
          <p:nvPr/>
        </p:nvSpPr>
        <p:spPr>
          <a:xfrm>
            <a:off x="6012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48"/>
          <p:cNvSpPr/>
          <p:nvPr/>
        </p:nvSpPr>
        <p:spPr>
          <a:xfrm>
            <a:off x="4500720" y="3645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Straight Arrow Connector 51"/>
          <p:cNvCxnSpPr/>
          <p:nvPr/>
        </p:nvCxnSpPr>
        <p:spPr>
          <a:xfrm>
            <a:off x="450036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5" name="Straight Arrow Connector 52"/>
          <p:cNvCxnSpPr/>
          <p:nvPr/>
        </p:nvCxnSpPr>
        <p:spPr>
          <a:xfrm>
            <a:off x="7160760" y="366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6" name="Straight Arrow Connector 53"/>
          <p:cNvCxnSpPr/>
          <p:nvPr/>
        </p:nvCxnSpPr>
        <p:spPr>
          <a:xfrm>
            <a:off x="4355640" y="4068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7" name="Straight Arrow Connector 54"/>
          <p:cNvCxnSpPr/>
          <p:nvPr/>
        </p:nvCxnSpPr>
        <p:spPr>
          <a:xfrm>
            <a:off x="5435280" y="4068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8" name="Straight Connector 56"/>
          <p:cNvSpPr/>
          <p:nvPr/>
        </p:nvSpPr>
        <p:spPr>
          <a:xfrm flipV="1">
            <a:off x="3333600" y="4642920"/>
            <a:ext cx="22464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58"/>
          <p:cNvSpPr/>
          <p:nvPr/>
        </p:nvSpPr>
        <p:spPr>
          <a:xfrm>
            <a:off x="4513320" y="4643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59"/>
          <p:cNvSpPr/>
          <p:nvPr/>
        </p:nvSpPr>
        <p:spPr>
          <a:xfrm>
            <a:off x="615636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60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61"/>
          <p:cNvSpPr/>
          <p:nvPr/>
        </p:nvSpPr>
        <p:spPr>
          <a:xfrm>
            <a:off x="3865680" y="5076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Straight Arrow Connector 62"/>
          <p:cNvCxnSpPr/>
          <p:nvPr/>
        </p:nvCxnSpPr>
        <p:spPr>
          <a:xfrm>
            <a:off x="3865320" y="507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4" name="Straight Arrow Connector 63"/>
          <p:cNvCxnSpPr/>
          <p:nvPr/>
        </p:nvCxnSpPr>
        <p:spPr>
          <a:xfrm>
            <a:off x="5233680" y="507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5" name="Straight Connector 75"/>
          <p:cNvSpPr/>
          <p:nvPr/>
        </p:nvSpPr>
        <p:spPr>
          <a:xfrm>
            <a:off x="313200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76"/>
          <p:cNvSpPr/>
          <p:nvPr/>
        </p:nvSpPr>
        <p:spPr>
          <a:xfrm>
            <a:off x="457200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7" name="Straight Arrow Connector 77"/>
          <p:cNvCxnSpPr/>
          <p:nvPr/>
        </p:nvCxnSpPr>
        <p:spPr>
          <a:xfrm>
            <a:off x="3779640" y="5949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8" name="Straight Arrow Connector 78"/>
          <p:cNvCxnSpPr/>
          <p:nvPr/>
        </p:nvCxnSpPr>
        <p:spPr>
          <a:xfrm>
            <a:off x="5219280" y="5949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9" name="Straight Connector 80"/>
          <p:cNvSpPr/>
          <p:nvPr/>
        </p:nvSpPr>
        <p:spPr>
          <a:xfrm>
            <a:off x="658800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Straight Arrow Connector 81"/>
          <p:cNvCxnSpPr/>
          <p:nvPr/>
        </p:nvCxnSpPr>
        <p:spPr>
          <a:xfrm>
            <a:off x="6587640" y="4869000"/>
            <a:ext cx="1080" cy="15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1" name="Straight Arrow Connector 82"/>
          <p:cNvCxnSpPr/>
          <p:nvPr/>
        </p:nvCxnSpPr>
        <p:spPr>
          <a:xfrm>
            <a:off x="8172000" y="486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2" name="Straight Connector 85"/>
          <p:cNvSpPr/>
          <p:nvPr/>
        </p:nvSpPr>
        <p:spPr>
          <a:xfrm>
            <a:off x="7667640" y="602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3" name="Straight Arrow Connector 86"/>
          <p:cNvCxnSpPr/>
          <p:nvPr/>
        </p:nvCxnSpPr>
        <p:spPr>
          <a:xfrm>
            <a:off x="8316720" y="6021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4" name="Straight Connector 90"/>
          <p:cNvSpPr/>
          <p:nvPr/>
        </p:nvSpPr>
        <p:spPr>
          <a:xfrm>
            <a:off x="684360" y="414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92"/>
          <p:cNvSpPr/>
          <p:nvPr/>
        </p:nvSpPr>
        <p:spPr>
          <a:xfrm>
            <a:off x="13161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93"/>
          <p:cNvSpPr/>
          <p:nvPr/>
        </p:nvSpPr>
        <p:spPr>
          <a:xfrm>
            <a:off x="684360" y="4365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Straight Arrow Connector 94"/>
          <p:cNvCxnSpPr/>
          <p:nvPr/>
        </p:nvCxnSpPr>
        <p:spPr>
          <a:xfrm flipH="1">
            <a:off x="677520" y="4365360"/>
            <a:ext cx="7200" cy="17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Straight Arrow Connector 95"/>
          <p:cNvCxnSpPr/>
          <p:nvPr/>
        </p:nvCxnSpPr>
        <p:spPr>
          <a:xfrm flipH="1">
            <a:off x="1901160" y="4365360"/>
            <a:ext cx="6840" cy="17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9" name="TextBox 1"/>
          <p:cNvSpPr/>
          <p:nvPr/>
        </p:nvSpPr>
        <p:spPr>
          <a:xfrm>
            <a:off x="2254320" y="9018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A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1"/>
          <p:cNvSpPr/>
          <p:nvPr/>
        </p:nvSpPr>
        <p:spPr>
          <a:xfrm>
            <a:off x="1979640" y="112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A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2"/>
          <p:cNvGraphicFramePr/>
          <p:nvPr/>
        </p:nvGraphicFramePr>
        <p:xfrm>
          <a:off x="2124000" y="2637000"/>
          <a:ext cx="49212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637000"/>
                    <a:ext cx="4921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TextBox 3"/>
          <p:cNvSpPr/>
          <p:nvPr/>
        </p:nvSpPr>
        <p:spPr>
          <a:xfrm>
            <a:off x="341964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 (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529272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Object 3"/>
          <p:cNvGraphicFramePr/>
          <p:nvPr/>
        </p:nvGraphicFramePr>
        <p:xfrm>
          <a:off x="179280" y="3595680"/>
          <a:ext cx="869652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595680"/>
                    <a:ext cx="8696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4"/>
          <p:cNvGraphicFramePr/>
          <p:nvPr/>
        </p:nvGraphicFramePr>
        <p:xfrm>
          <a:off x="3203640" y="4005360"/>
          <a:ext cx="16891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005360"/>
                    <a:ext cx="16891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5"/>
          <p:cNvGraphicFramePr/>
          <p:nvPr/>
        </p:nvGraphicFramePr>
        <p:xfrm>
          <a:off x="1692360" y="4869000"/>
          <a:ext cx="50259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4869000"/>
                    <a:ext cx="5025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TextBox 8"/>
          <p:cNvSpPr/>
          <p:nvPr/>
        </p:nvSpPr>
        <p:spPr>
          <a:xfrm>
            <a:off x="572436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Object 6"/>
          <p:cNvGraphicFramePr/>
          <p:nvPr/>
        </p:nvGraphicFramePr>
        <p:xfrm>
          <a:off x="1908000" y="5661000"/>
          <a:ext cx="46389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5661000"/>
                    <a:ext cx="4638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TextBox 10"/>
          <p:cNvSpPr/>
          <p:nvPr/>
        </p:nvSpPr>
        <p:spPr>
          <a:xfrm>
            <a:off x="5796000" y="5950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769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 подела квалитативне анализе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82520" y="191628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тативна анали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бласт аналитичке хемије која проучава методе помоћу којих се утврђује из којих се хемијских елемената, јо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 атома састоји испитива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з којих се хемијских једињења састоји испитивана матер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оже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а 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ична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182520" y="5022720"/>
            <a:ext cx="8675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м анализ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хемијски састав свих компонената уз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ом анализ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присуство или одсуство једне или неколико компонената уз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Box 1"/>
          <p:cNvSpPr/>
          <p:nvPr/>
        </p:nvSpPr>
        <p:spPr>
          <a:xfrm>
            <a:off x="3203640" y="907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ово  (P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1908000" y="1557360"/>
          <a:ext cx="49086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4908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3"/>
          <p:cNvGraphicFramePr/>
          <p:nvPr/>
        </p:nvGraphicFramePr>
        <p:xfrm>
          <a:off x="468360" y="2421000"/>
          <a:ext cx="7848720" cy="29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421000"/>
                    <a:ext cx="784872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0" name="Object 4"/>
          <p:cNvGraphicFramePr/>
          <p:nvPr/>
        </p:nvGraphicFramePr>
        <p:xfrm>
          <a:off x="3419640" y="2852640"/>
          <a:ext cx="168876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852640"/>
                    <a:ext cx="1688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TextBox 6"/>
          <p:cNvSpPr/>
          <p:nvPr/>
        </p:nvSpPr>
        <p:spPr>
          <a:xfrm>
            <a:off x="5005440" y="190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7"/>
          <p:cNvSpPr/>
          <p:nvPr/>
        </p:nvSpPr>
        <p:spPr>
          <a:xfrm>
            <a:off x="3995640" y="4019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Object 7"/>
          <p:cNvGraphicFramePr/>
          <p:nvPr/>
        </p:nvGraphicFramePr>
        <p:xfrm>
          <a:off x="436680" y="5157720"/>
          <a:ext cx="838332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680" y="5157720"/>
                    <a:ext cx="83833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Object 8"/>
          <p:cNvGraphicFramePr/>
          <p:nvPr/>
        </p:nvGraphicFramePr>
        <p:xfrm>
          <a:off x="457200" y="5805360"/>
          <a:ext cx="685152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805360"/>
                    <a:ext cx="6851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TextBox 11"/>
          <p:cNvSpPr/>
          <p:nvPr/>
        </p:nvSpPr>
        <p:spPr>
          <a:xfrm>
            <a:off x="4211640" y="6227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Object 9"/>
          <p:cNvGraphicFramePr/>
          <p:nvPr/>
        </p:nvGraphicFramePr>
        <p:xfrm>
          <a:off x="468360" y="3716280"/>
          <a:ext cx="619272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3716280"/>
                    <a:ext cx="6192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Object 10"/>
          <p:cNvGraphicFramePr/>
          <p:nvPr/>
        </p:nvGraphicFramePr>
        <p:xfrm>
          <a:off x="507960" y="4508640"/>
          <a:ext cx="5143680" cy="31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960" y="4508640"/>
                    <a:ext cx="51436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Object 2"/>
          <p:cNvGraphicFramePr/>
          <p:nvPr/>
        </p:nvGraphicFramePr>
        <p:xfrm>
          <a:off x="2124000" y="1700280"/>
          <a:ext cx="4919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00280"/>
                    <a:ext cx="4919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TextBox 2"/>
          <p:cNvSpPr/>
          <p:nvPr/>
        </p:nvSpPr>
        <p:spPr>
          <a:xfrm>
            <a:off x="3203640" y="112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змут  (Bi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3"/>
          <p:cNvGraphicFramePr/>
          <p:nvPr/>
        </p:nvGraphicFramePr>
        <p:xfrm>
          <a:off x="179280" y="2565360"/>
          <a:ext cx="86709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565360"/>
                    <a:ext cx="8670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TextBox 4"/>
          <p:cNvSpPr/>
          <p:nvPr/>
        </p:nvSpPr>
        <p:spPr>
          <a:xfrm>
            <a:off x="521964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9" name="Object 4"/>
          <p:cNvGraphicFramePr/>
          <p:nvPr/>
        </p:nvGraphicFramePr>
        <p:xfrm>
          <a:off x="3224160" y="3068640"/>
          <a:ext cx="205596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3068640"/>
                    <a:ext cx="2055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5"/>
          <p:cNvGraphicFramePr/>
          <p:nvPr/>
        </p:nvGraphicFramePr>
        <p:xfrm>
          <a:off x="303120" y="5435640"/>
          <a:ext cx="81565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120" y="5435640"/>
                    <a:ext cx="8156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Object 6"/>
          <p:cNvGraphicFramePr/>
          <p:nvPr/>
        </p:nvGraphicFramePr>
        <p:xfrm>
          <a:off x="628560" y="4211640"/>
          <a:ext cx="73281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8560" y="4211640"/>
                    <a:ext cx="7328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TextBox 8"/>
          <p:cNvSpPr/>
          <p:nvPr/>
        </p:nvSpPr>
        <p:spPr>
          <a:xfrm>
            <a:off x="4716360" y="4572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9"/>
          <p:cNvSpPr/>
          <p:nvPr/>
        </p:nvSpPr>
        <p:spPr>
          <a:xfrm>
            <a:off x="4984920" y="5867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Box 1"/>
          <p:cNvSpPr/>
          <p:nvPr/>
        </p:nvSpPr>
        <p:spPr>
          <a:xfrm>
            <a:off x="320364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кар  (Cu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Object 2"/>
          <p:cNvGraphicFramePr/>
          <p:nvPr/>
        </p:nvGraphicFramePr>
        <p:xfrm>
          <a:off x="1835280" y="1700280"/>
          <a:ext cx="45543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00280"/>
                    <a:ext cx="4554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Box 3"/>
          <p:cNvSpPr/>
          <p:nvPr/>
        </p:nvSpPr>
        <p:spPr>
          <a:xfrm>
            <a:off x="4714920" y="1987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Object 3"/>
          <p:cNvGraphicFramePr/>
          <p:nvPr/>
        </p:nvGraphicFramePr>
        <p:xfrm>
          <a:off x="179280" y="2577960"/>
          <a:ext cx="8569440" cy="3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577960"/>
                    <a:ext cx="85694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4"/>
          <p:cNvGraphicFramePr/>
          <p:nvPr/>
        </p:nvGraphicFramePr>
        <p:xfrm>
          <a:off x="3132000" y="2997360"/>
          <a:ext cx="205596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997360"/>
                    <a:ext cx="2055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5"/>
          <p:cNvGraphicFramePr/>
          <p:nvPr/>
        </p:nvGraphicFramePr>
        <p:xfrm>
          <a:off x="826920" y="4105440"/>
          <a:ext cx="5977080" cy="31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105440"/>
                    <a:ext cx="59770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6"/>
          <p:cNvGraphicFramePr/>
          <p:nvPr/>
        </p:nvGraphicFramePr>
        <p:xfrm>
          <a:off x="34920" y="5364000"/>
          <a:ext cx="906480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5364000"/>
                    <a:ext cx="90648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TextBox 8"/>
          <p:cNvSpPr/>
          <p:nvPr/>
        </p:nvSpPr>
        <p:spPr>
          <a:xfrm>
            <a:off x="4788000" y="4427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урно пл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9"/>
          <p:cNvSpPr/>
          <p:nvPr/>
        </p:nvSpPr>
        <p:spPr>
          <a:xfrm>
            <a:off x="5076720" y="5796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Box 1"/>
          <p:cNvSpPr/>
          <p:nvPr/>
        </p:nvSpPr>
        <p:spPr>
          <a:xfrm>
            <a:off x="3203640" y="1125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дмијум  (Cd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Object 3"/>
          <p:cNvGraphicFramePr/>
          <p:nvPr/>
        </p:nvGraphicFramePr>
        <p:xfrm>
          <a:off x="2195640" y="1844640"/>
          <a:ext cx="475272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44640"/>
                    <a:ext cx="47527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TextBox 4"/>
          <p:cNvSpPr/>
          <p:nvPr/>
        </p:nvSpPr>
        <p:spPr>
          <a:xfrm>
            <a:off x="5003640" y="227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5" name="Object 4"/>
          <p:cNvGraphicFramePr/>
          <p:nvPr/>
        </p:nvGraphicFramePr>
        <p:xfrm>
          <a:off x="324000" y="2924280"/>
          <a:ext cx="8188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924280"/>
                    <a:ext cx="8188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5"/>
          <p:cNvGraphicFramePr/>
          <p:nvPr/>
        </p:nvGraphicFramePr>
        <p:xfrm>
          <a:off x="3348000" y="3357720"/>
          <a:ext cx="16891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3357720"/>
                    <a:ext cx="16891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6"/>
          <p:cNvGraphicFramePr/>
          <p:nvPr/>
        </p:nvGraphicFramePr>
        <p:xfrm>
          <a:off x="1258920" y="4292640"/>
          <a:ext cx="635472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292640"/>
                    <a:ext cx="6354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8"/>
          <p:cNvGraphicFramePr/>
          <p:nvPr/>
        </p:nvGraphicFramePr>
        <p:xfrm>
          <a:off x="119160" y="4941720"/>
          <a:ext cx="891684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160" y="4941720"/>
                    <a:ext cx="89168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9"/>
          <p:cNvGraphicFramePr/>
          <p:nvPr/>
        </p:nvGraphicFramePr>
        <p:xfrm>
          <a:off x="1187280" y="5589720"/>
          <a:ext cx="679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589720"/>
                    <a:ext cx="679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TextBox 11"/>
          <p:cNvSpPr/>
          <p:nvPr/>
        </p:nvSpPr>
        <p:spPr>
          <a:xfrm>
            <a:off x="4716360" y="5950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1"/>
          <p:cNvSpPr/>
          <p:nvPr/>
        </p:nvSpPr>
        <p:spPr>
          <a:xfrm>
            <a:off x="2698920" y="2205000"/>
            <a:ext cx="331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S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Sn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        наранџаст     жу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"/>
          <p:cNvSpPr/>
          <p:nvPr/>
        </p:nvSpPr>
        <p:spPr>
          <a:xfrm>
            <a:off x="770040" y="3662280"/>
            <a:ext cx="86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8" name="Straight Arrow Connector 5"/>
          <p:cNvCxnSpPr/>
          <p:nvPr/>
        </p:nvCxnSpPr>
        <p:spPr>
          <a:xfrm>
            <a:off x="341928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9" name="Straight Arrow Connector 6"/>
          <p:cNvCxnSpPr/>
          <p:nvPr/>
        </p:nvCxnSpPr>
        <p:spPr>
          <a:xfrm>
            <a:off x="450036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0" name="Straight Arrow Connector 7"/>
          <p:cNvCxnSpPr/>
          <p:nvPr/>
        </p:nvCxnSpPr>
        <p:spPr>
          <a:xfrm>
            <a:off x="543528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1" name="Rectangle 11"/>
          <p:cNvSpPr/>
          <p:nvPr/>
        </p:nvSpPr>
        <p:spPr>
          <a:xfrm>
            <a:off x="7255080" y="6238800"/>
            <a:ext cx="680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7045200" y="5375160"/>
            <a:ext cx="976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1269000" y="4059360"/>
            <a:ext cx="6638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6376320" y="4130640"/>
            <a:ext cx="52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6"/>
          <p:cNvSpPr/>
          <p:nvPr/>
        </p:nvSpPr>
        <p:spPr>
          <a:xfrm>
            <a:off x="6732720" y="4738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тв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traight Connector 33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traight Connector 34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traight Connector 35"/>
          <p:cNvSpPr/>
          <p:nvPr/>
        </p:nvSpPr>
        <p:spPr>
          <a:xfrm>
            <a:off x="1258920" y="3298680"/>
            <a:ext cx="5127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36"/>
          <p:cNvCxnSpPr/>
          <p:nvPr/>
        </p:nvCxnSpPr>
        <p:spPr>
          <a:xfrm>
            <a:off x="125856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0" name="Straight Arrow Connector 37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1" name="Straight Connector 38"/>
          <p:cNvSpPr/>
          <p:nvPr/>
        </p:nvSpPr>
        <p:spPr>
          <a:xfrm>
            <a:off x="395280" y="402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traight Connector 39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Straight Arrow Connector 40"/>
          <p:cNvCxnSpPr/>
          <p:nvPr/>
        </p:nvCxnSpPr>
        <p:spPr>
          <a:xfrm>
            <a:off x="1258560" y="4022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4" name="Straight Connector 41"/>
          <p:cNvSpPr/>
          <p:nvPr/>
        </p:nvSpPr>
        <p:spPr>
          <a:xfrm flipH="1">
            <a:off x="6297120" y="4094280"/>
            <a:ext cx="180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>
            <a:off x="4788000" y="4451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43"/>
          <p:cNvCxnSpPr/>
          <p:nvPr/>
        </p:nvCxnSpPr>
        <p:spPr>
          <a:xfrm>
            <a:off x="4787640" y="44510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7" name="Straight Arrow Connector 44"/>
          <p:cNvCxnSpPr/>
          <p:nvPr/>
        </p:nvCxnSpPr>
        <p:spPr>
          <a:xfrm>
            <a:off x="7448040" y="44524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8" name="Straight Connector 49"/>
          <p:cNvSpPr/>
          <p:nvPr/>
        </p:nvSpPr>
        <p:spPr>
          <a:xfrm>
            <a:off x="6516720" y="508788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58"/>
          <p:cNvSpPr/>
          <p:nvPr/>
        </p:nvSpPr>
        <p:spPr>
          <a:xfrm>
            <a:off x="6804000" y="5951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0" name="Straight Arrow Connector 60"/>
          <p:cNvCxnSpPr/>
          <p:nvPr/>
        </p:nvCxnSpPr>
        <p:spPr>
          <a:xfrm>
            <a:off x="7524360" y="59511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1" name="Straight Connector 63"/>
          <p:cNvSpPr/>
          <p:nvPr/>
        </p:nvSpPr>
        <p:spPr>
          <a:xfrm>
            <a:off x="684360" y="488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68"/>
          <p:cNvSpPr/>
          <p:nvPr/>
        </p:nvSpPr>
        <p:spPr>
          <a:xfrm>
            <a:off x="4019400" y="1738440"/>
            <a:ext cx="11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69"/>
          <p:cNvSpPr/>
          <p:nvPr/>
        </p:nvSpPr>
        <p:spPr>
          <a:xfrm>
            <a:off x="4147920" y="2928960"/>
            <a:ext cx="115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onc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0"/>
          <p:cNvSpPr/>
          <p:nvPr/>
        </p:nvSpPr>
        <p:spPr>
          <a:xfrm>
            <a:off x="567360" y="4516560"/>
            <a:ext cx="153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1"/>
          <p:cNvSpPr/>
          <p:nvPr/>
        </p:nvSpPr>
        <p:spPr>
          <a:xfrm>
            <a:off x="1267560" y="4994280"/>
            <a:ext cx="11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Straight Arrow Connector 76"/>
          <p:cNvCxnSpPr/>
          <p:nvPr/>
        </p:nvCxnSpPr>
        <p:spPr>
          <a:xfrm flipH="1">
            <a:off x="1258560" y="488628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7" name="Rectangle 78"/>
          <p:cNvSpPr/>
          <p:nvPr/>
        </p:nvSpPr>
        <p:spPr>
          <a:xfrm>
            <a:off x="901800" y="5460840"/>
            <a:ext cx="727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Straight Arrow Connector 79"/>
          <p:cNvCxnSpPr/>
          <p:nvPr/>
        </p:nvCxnSpPr>
        <p:spPr>
          <a:xfrm>
            <a:off x="1628280" y="54604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9" name="Rectangle 80"/>
          <p:cNvSpPr/>
          <p:nvPr/>
        </p:nvSpPr>
        <p:spPr>
          <a:xfrm>
            <a:off x="5364000" y="366228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b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1"/>
          <p:cNvSpPr/>
          <p:nvPr/>
        </p:nvSpPr>
        <p:spPr>
          <a:xfrm>
            <a:off x="4557600" y="4821120"/>
            <a:ext cx="73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2"/>
          <p:cNvSpPr/>
          <p:nvPr/>
        </p:nvSpPr>
        <p:spPr>
          <a:xfrm>
            <a:off x="7431480" y="5087880"/>
            <a:ext cx="80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gC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Straight Arrow Connector 86"/>
          <p:cNvCxnSpPr/>
          <p:nvPr/>
        </p:nvCxnSpPr>
        <p:spPr>
          <a:xfrm flipH="1">
            <a:off x="7447680" y="5089680"/>
            <a:ext cx="39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3" name="Rectangle 89"/>
          <p:cNvSpPr/>
          <p:nvPr/>
        </p:nvSpPr>
        <p:spPr>
          <a:xfrm>
            <a:off x="7596360" y="5951520"/>
            <a:ext cx="136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ша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90"/>
          <p:cNvSpPr/>
          <p:nvPr/>
        </p:nvSpPr>
        <p:spPr>
          <a:xfrm>
            <a:off x="1332000" y="294624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91"/>
          <p:cNvSpPr/>
          <p:nvPr/>
        </p:nvSpPr>
        <p:spPr>
          <a:xfrm>
            <a:off x="558000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1547640" y="141300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107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"/>
          <p:cNvSpPr/>
          <p:nvPr/>
        </p:nvSpPr>
        <p:spPr>
          <a:xfrm>
            <a:off x="2154240" y="919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B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9" name="Straight Arrow Connector 111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1"/>
          <p:cNvSpPr/>
          <p:nvPr/>
        </p:nvSpPr>
        <p:spPr>
          <a:xfrm>
            <a:off x="2916360" y="103356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сен (As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As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2"/>
          <p:cNvSpPr/>
          <p:nvPr/>
        </p:nvSpPr>
        <p:spPr>
          <a:xfrm>
            <a:off x="182520" y="170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A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у воденом раствору хидролизу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2" name="Object 1"/>
          <p:cNvGraphicFramePr/>
          <p:nvPr/>
        </p:nvGraphicFramePr>
        <p:xfrm>
          <a:off x="1836720" y="2492280"/>
          <a:ext cx="503892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492280"/>
                    <a:ext cx="50389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2"/>
          <p:cNvGraphicFramePr/>
          <p:nvPr/>
        </p:nvGraphicFramePr>
        <p:xfrm>
          <a:off x="1835280" y="3141720"/>
          <a:ext cx="518472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141720"/>
                    <a:ext cx="5184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Box 5"/>
          <p:cNvSpPr/>
          <p:nvPr/>
        </p:nvSpPr>
        <p:spPr>
          <a:xfrm>
            <a:off x="182520" y="371628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раствор закишељен помоћу HCl, настаје жути талог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Object 3"/>
          <p:cNvGraphicFramePr/>
          <p:nvPr/>
        </p:nvGraphicFramePr>
        <p:xfrm>
          <a:off x="1763640" y="4741920"/>
          <a:ext cx="511200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741920"/>
                    <a:ext cx="51120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9" name="Object 4"/>
          <p:cNvGraphicFramePr/>
          <p:nvPr/>
        </p:nvGraphicFramePr>
        <p:xfrm>
          <a:off x="1619280" y="5661000"/>
          <a:ext cx="537984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661000"/>
                    <a:ext cx="5379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Box 4"/>
          <p:cNvSpPr/>
          <p:nvPr/>
        </p:nvSpPr>
        <p:spPr>
          <a:xfrm>
            <a:off x="4859280" y="514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493236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182520" y="112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створ садржи и A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Object 2"/>
          <p:cNvGraphicFramePr/>
          <p:nvPr/>
        </p:nvGraphicFramePr>
        <p:xfrm>
          <a:off x="1763640" y="1773360"/>
          <a:ext cx="5873760" cy="5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8737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Object 3"/>
          <p:cNvGraphicFramePr/>
          <p:nvPr/>
        </p:nvGraphicFramePr>
        <p:xfrm>
          <a:off x="1692360" y="2492280"/>
          <a:ext cx="53830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492280"/>
                    <a:ext cx="5383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8" name="TextBox 4"/>
          <p:cNvSpPr/>
          <p:nvPr/>
        </p:nvSpPr>
        <p:spPr>
          <a:xfrm>
            <a:off x="182520" y="2997360"/>
            <a:ext cx="889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у алкалним хидроксидима, амонијаку, амонијум-дисулф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Object 4"/>
          <p:cNvGraphicFramePr/>
          <p:nvPr/>
        </p:nvGraphicFramePr>
        <p:xfrm>
          <a:off x="611280" y="3860640"/>
          <a:ext cx="79930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860640"/>
                    <a:ext cx="79930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Box 6"/>
          <p:cNvSpPr/>
          <p:nvPr/>
        </p:nvSpPr>
        <p:spPr>
          <a:xfrm>
            <a:off x="182520" y="443700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амонија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2" name="Object 6"/>
          <p:cNvGraphicFramePr/>
          <p:nvPr/>
        </p:nvGraphicFramePr>
        <p:xfrm>
          <a:off x="401760" y="5373720"/>
          <a:ext cx="834696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760" y="5373720"/>
                    <a:ext cx="8346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Object 7"/>
          <p:cNvGraphicFramePr/>
          <p:nvPr/>
        </p:nvGraphicFramePr>
        <p:xfrm>
          <a:off x="395280" y="6237360"/>
          <a:ext cx="84535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6237360"/>
                    <a:ext cx="8453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Box 1"/>
          <p:cNvSpPr/>
          <p:nvPr/>
        </p:nvSpPr>
        <p:spPr>
          <a:xfrm>
            <a:off x="2916360" y="10335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имон (S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S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2"/>
          <p:cNvSpPr/>
          <p:nvPr/>
        </p:nvSpPr>
        <p:spPr>
          <a:xfrm>
            <a:off x="182520" y="1628640"/>
            <a:ext cx="871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кисели раствор (HCl) настаје наранџасти тало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8" name="Object 2"/>
          <p:cNvGraphicFramePr/>
          <p:nvPr/>
        </p:nvGraphicFramePr>
        <p:xfrm>
          <a:off x="2050920" y="2349360"/>
          <a:ext cx="507996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0799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TextBox 4"/>
          <p:cNvSpPr/>
          <p:nvPr/>
        </p:nvSpPr>
        <p:spPr>
          <a:xfrm>
            <a:off x="182520" y="3213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се раствара у вишку HC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Object 3"/>
          <p:cNvGraphicFramePr/>
          <p:nvPr/>
        </p:nvGraphicFramePr>
        <p:xfrm>
          <a:off x="1258920" y="3933720"/>
          <a:ext cx="627228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933720"/>
                    <a:ext cx="62722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3" name="TextBox 6"/>
          <p:cNvSpPr/>
          <p:nvPr/>
        </p:nvSpPr>
        <p:spPr>
          <a:xfrm>
            <a:off x="182520" y="4508640"/>
            <a:ext cx="856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и у алкалним хидроксидима и амонијум-дисулф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Object 4"/>
          <p:cNvGraphicFramePr/>
          <p:nvPr/>
        </p:nvGraphicFramePr>
        <p:xfrm>
          <a:off x="611280" y="5589720"/>
          <a:ext cx="796140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589720"/>
                    <a:ext cx="7961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Box 1"/>
          <p:cNvSpPr/>
          <p:nvPr/>
        </p:nvSpPr>
        <p:spPr>
          <a:xfrm>
            <a:off x="182520" y="126828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 наранџасти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вишку кисе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Object 2"/>
          <p:cNvGraphicFramePr/>
          <p:nvPr/>
        </p:nvGraphicFramePr>
        <p:xfrm>
          <a:off x="1476360" y="2433600"/>
          <a:ext cx="5904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33600"/>
                    <a:ext cx="5904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9" name="TextBox 3"/>
          <p:cNvSpPr/>
          <p:nvPr/>
        </p:nvSpPr>
        <p:spPr>
          <a:xfrm>
            <a:off x="18252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 гвожђе редукује антимон до елементарног стања (S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Object 3"/>
          <p:cNvGraphicFramePr/>
          <p:nvPr/>
        </p:nvGraphicFramePr>
        <p:xfrm>
          <a:off x="3276720" y="4923000"/>
          <a:ext cx="215892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923000"/>
                    <a:ext cx="21589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4"/>
          <p:cNvGraphicFramePr/>
          <p:nvPr/>
        </p:nvGraphicFramePr>
        <p:xfrm>
          <a:off x="826920" y="3789360"/>
          <a:ext cx="736308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789360"/>
                    <a:ext cx="736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TextBox 3"/>
          <p:cNvSpPr/>
          <p:nvPr/>
        </p:nvSpPr>
        <p:spPr>
          <a:xfrm>
            <a:off x="399564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Box 1"/>
          <p:cNvSpPr/>
          <p:nvPr/>
        </p:nvSpPr>
        <p:spPr>
          <a:xfrm>
            <a:off x="182520" y="148428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створ садржи и 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2"/>
          <p:cNvGraphicFramePr/>
          <p:nvPr/>
        </p:nvGraphicFramePr>
        <p:xfrm>
          <a:off x="1692360" y="2708280"/>
          <a:ext cx="4967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4967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Object 3"/>
          <p:cNvGraphicFramePr/>
          <p:nvPr/>
        </p:nvGraphicFramePr>
        <p:xfrm>
          <a:off x="1332000" y="3933720"/>
          <a:ext cx="61261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933720"/>
                    <a:ext cx="6126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"/>
          <p:cNvSpPr/>
          <p:nvPr/>
        </p:nvSpPr>
        <p:spPr>
          <a:xfrm>
            <a:off x="179280" y="19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компонентама које се доказују, квалитативна анализа може б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395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ментарна, функционална и анализа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182520" y="3716280"/>
            <a:ext cx="8893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у само елементи од којих је узорак изграђен (натријум, манган, сумп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у присутне функционалне групе у чији састав улази неколико елемената (хидроксилна, карбонатна, сулфатна, ацетат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потпуни састав једињења са датим функционалним групама (сирћетна киселина,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-карбона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Box 1"/>
          <p:cNvSpPr/>
          <p:nvPr/>
        </p:nvSpPr>
        <p:spPr>
          <a:xfrm>
            <a:off x="2916360" y="10335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ај (S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S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Object 2"/>
          <p:cNvGraphicFramePr/>
          <p:nvPr/>
        </p:nvGraphicFramePr>
        <p:xfrm>
          <a:off x="1692360" y="1700280"/>
          <a:ext cx="592596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5925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3"/>
          <p:cNvGraphicFramePr/>
          <p:nvPr/>
        </p:nvGraphicFramePr>
        <p:xfrm>
          <a:off x="2050920" y="2997360"/>
          <a:ext cx="47181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997360"/>
                    <a:ext cx="4718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TextBox 4"/>
          <p:cNvSpPr/>
          <p:nvPr/>
        </p:nvSpPr>
        <p:spPr>
          <a:xfrm>
            <a:off x="182520" y="2309760"/>
            <a:ext cx="87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кисели раствор (HCl) настаје жути тало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182520" y="3645000"/>
            <a:ext cx="79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и у алкалним хидроксиди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Object 4"/>
          <p:cNvGraphicFramePr/>
          <p:nvPr/>
        </p:nvGraphicFramePr>
        <p:xfrm>
          <a:off x="1116000" y="4251240"/>
          <a:ext cx="69134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251240"/>
                    <a:ext cx="6913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TextBox 8"/>
          <p:cNvSpPr/>
          <p:nvPr/>
        </p:nvSpPr>
        <p:spPr>
          <a:xfrm>
            <a:off x="182520" y="472428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вишку кисе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0" name="Object 5"/>
          <p:cNvGraphicFramePr/>
          <p:nvPr/>
        </p:nvGraphicFramePr>
        <p:xfrm>
          <a:off x="133200" y="5589720"/>
          <a:ext cx="8831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" y="5589720"/>
                    <a:ext cx="8831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Object 6"/>
          <p:cNvGraphicFramePr/>
          <p:nvPr/>
        </p:nvGraphicFramePr>
        <p:xfrm>
          <a:off x="2050920" y="6281640"/>
          <a:ext cx="496908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6281640"/>
                    <a:ext cx="49690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Box 1"/>
          <p:cNvSpPr/>
          <p:nvPr/>
        </p:nvSpPr>
        <p:spPr>
          <a:xfrm>
            <a:off x="18252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 гвожђе редуку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Object 2"/>
          <p:cNvGraphicFramePr/>
          <p:nvPr/>
        </p:nvGraphicFramePr>
        <p:xfrm>
          <a:off x="1258920" y="2276640"/>
          <a:ext cx="58262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5826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Object 3"/>
          <p:cNvGraphicFramePr/>
          <p:nvPr/>
        </p:nvGraphicFramePr>
        <p:xfrm>
          <a:off x="2843280" y="2906640"/>
          <a:ext cx="2449440" cy="8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906640"/>
                    <a:ext cx="24494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Object 4"/>
          <p:cNvGraphicFramePr/>
          <p:nvPr/>
        </p:nvGraphicFramePr>
        <p:xfrm>
          <a:off x="1042920" y="4643280"/>
          <a:ext cx="6594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43280"/>
                    <a:ext cx="6594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1" name="TextBox 5"/>
          <p:cNvSpPr/>
          <p:nvPr/>
        </p:nvSpPr>
        <p:spPr>
          <a:xfrm>
            <a:off x="182520" y="397512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у раствору се доказује раствором H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7"/>
          <p:cNvSpPr/>
          <p:nvPr/>
        </p:nvSpPr>
        <p:spPr>
          <a:xfrm>
            <a:off x="6659640" y="5075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7"/>
          <p:cNvGraphicFramePr/>
          <p:nvPr/>
        </p:nvGraphicFramePr>
        <p:xfrm>
          <a:off x="2771640" y="5516640"/>
          <a:ext cx="280836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516640"/>
                    <a:ext cx="2808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Object 2"/>
          <p:cNvGraphicFramePr/>
          <p:nvPr/>
        </p:nvGraphicFramePr>
        <p:xfrm>
          <a:off x="971640" y="2637000"/>
          <a:ext cx="6215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6215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TextBox 2"/>
          <p:cNvSpPr/>
          <p:nvPr/>
        </p:nvSpPr>
        <p:spPr>
          <a:xfrm>
            <a:off x="395280" y="177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шк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издваја се елементарна жива (H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Object 3"/>
          <p:cNvGraphicFramePr/>
          <p:nvPr/>
        </p:nvGraphicFramePr>
        <p:xfrm>
          <a:off x="2843280" y="3716280"/>
          <a:ext cx="23097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716280"/>
                    <a:ext cx="23097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"/>
          <p:cNvSpPr/>
          <p:nvPr/>
        </p:nvSpPr>
        <p:spPr>
          <a:xfrm>
            <a:off x="3146760" y="119772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зна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2"/>
          <p:cNvSpPr/>
          <p:nvPr/>
        </p:nvSpPr>
        <p:spPr>
          <a:xfrm>
            <a:off x="182520" y="20606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на анали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одређивање присуства појединих фаза (најчешће чврстих) које улазе у састав неког сложеног хетерогеног система (легура, руда, керамичких материј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182520" y="3789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е врши испитивање расподеле легирајућих елемената у вишефазним легурама, анализа неметалних примеса (оксида, сулфида, нитрида) у металима и с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182160" y="2349000"/>
            <a:ext cx="84358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еакције које се примењују 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вање супстанци у квалитативној хемијској анализи назив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реак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865440" y="119700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, </a:t>
            </a:r>
            <a:r>
              <a:rPr b="1" lang="sr-BA" sz="2800" spc="-1" strike="noStrike">
                <a:solidFill>
                  <a:srgbClr val="c00000"/>
                </a:solidFill>
                <a:latin typeface="Times New Roman"/>
              </a:rPr>
              <a:t>р</a:t>
            </a: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агенси и реакт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182520" y="5084640"/>
            <a:ext cx="7777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реакције могу да се изв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м  путе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им пут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"/>
          <p:cNvSpPr/>
          <p:nvPr/>
        </p:nvSpPr>
        <p:spPr>
          <a:xfrm>
            <a:off x="182520" y="3789360"/>
            <a:ext cx="831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 или реактиви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упстанце познатог састава које додајемо узорку и са којима компоненте узорка реаг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4"/>
          <p:cNvSpPr/>
          <p:nvPr/>
        </p:nvSpPr>
        <p:spPr>
          <a:xfrm>
            <a:off x="1547640" y="1052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 сув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79280" y="38577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увим путем су следећ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ње пламе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спарљива једињења метала дају карактеристично обојену светлост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љење супстанце (топљењем чврсте супстанце са чврстим оксидационим средством састојци смеше се топе, реагују и дају карактеристично  обојена једињењ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њење супстанц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тњењем чврсте супстанце са чврстим реагенсом у порцеланском авану може доћи до реакције, уз настајање карактеристичне боје смеше или стварањем карактеристичног мири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5"/>
          <p:cNvSpPr/>
          <p:nvPr/>
        </p:nvSpPr>
        <p:spPr>
          <a:xfrm>
            <a:off x="182520" y="1643040"/>
            <a:ext cx="87854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ашања чврсте супстанце при загревању или при топљењу са разним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м реагенси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тељим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 се анализ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увим путем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редставља део испитивања које претходи системској анализ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мокрим путем” и служи за добијање орјентационих информација о саставу узор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324000" y="2421000"/>
          <a:ext cx="5400360" cy="2743200"/>
        </p:xfrm>
        <a:graphic>
          <a:graphicData uri="http://schemas.openxmlformats.org/drawingml/2006/table">
            <a:tbl>
              <a:tblPr/>
              <a:tblGrid>
                <a:gridCol w="3384360"/>
                <a:gridCol w="2016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ја пл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њењ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јана златножу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р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дољубич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глацрв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ц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минцрв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sp>
        <p:nvSpPr>
          <p:cNvPr id="730" name="TextBox 3"/>
          <p:cNvSpPr/>
          <p:nvPr/>
        </p:nvSpPr>
        <p:spPr>
          <a:xfrm>
            <a:off x="1928880" y="1071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је пламена нек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5" descr="C:\Users\Maca\Desktop\I ned AH\boja plamena.jpg"/>
          <p:cNvPicPr/>
          <p:nvPr/>
        </p:nvPicPr>
        <p:blipFill>
          <a:blip r:embed="rId1"/>
          <a:stretch/>
        </p:blipFill>
        <p:spPr>
          <a:xfrm>
            <a:off x="6227640" y="2060640"/>
            <a:ext cx="2409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1476360" y="1052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 мокр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"/>
          <p:cNvSpPr/>
          <p:nvPr/>
        </p:nvSpPr>
        <p:spPr>
          <a:xfrm>
            <a:off x="182520" y="1916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аналитичких реакција се изводи у растворима, па се из тог разлога говори о анализ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мокрим путем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520" y="2924280"/>
            <a:ext cx="8425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е супстанце су најчешће растворне у води или се преводе у једињења растворна у води приликом припремања узорка за анализу. Водени раствори су јако подесни за анализу, зато се често примењу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а анализа неорганских једињења мокрим путем може би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ом анализом се испитује састав раствора на присуство катјона и анјона који се помоћу одговарајућих сукцесивних операција раздвајају на групе јона сличних особина, који се затим појединачно испиту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 анализа се врши када се једна компонента доказује без претходног одвајања од осталих компонената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10-13T10:03:51Z</dcterms:modified>
  <cp:revision>577</cp:revision>
  <dc:subject/>
  <dc:title>Slide 1</dc:title>
</cp:coreProperties>
</file>